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DCA-66A3-4950-B8CB-4851348F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70F-38DD-446A-8F0B-52FA4D03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A9C-CFF9-4D6A-9F5A-0DAB00CD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268-736A-4758-913D-A0ECBF23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2B3-D83D-42E7-AF89-786D7253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6F95-4E58-41AF-9115-CB4C9082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D84-1F0B-4AA7-B77A-B2067A22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15A-D434-4EE3-ACC2-6800CCCA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160-81FD-4FDE-A5DF-0985AEAA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491-B836-45EB-A0FC-038F1BB9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DB9-ABE5-488C-A716-DC461057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BE5-0D68-484D-A553-2E5BE5C4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DF2C-1302-407B-9335-8E27949A7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Risk Assessment and Regulations</a:t>
            </a:r>
            <a:br>
              <a:rPr sz="2000"/>
            </a:b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Global View - Big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3124080"/>
            <a:ext cx="990720" cy="83844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w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2666880"/>
            <a:ext cx="990720" cy="838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ccup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4191120"/>
            <a:ext cx="114300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ui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ntr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3048120"/>
            <a:ext cx="762120" cy="685800"/>
          </a:xfrm>
          <a:prstGeom prst="flowChartMultidocumen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F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4952880"/>
            <a:ext cx="833400" cy="762120"/>
          </a:xfrm>
          <a:prstGeom prst="flowChartMultidocumen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5486400"/>
            <a:ext cx="380880" cy="457200"/>
          </a:xfrm>
          <a:prstGeom prst="foldedCorner">
            <a:avLst>
              <a:gd name="adj" fmla="val 125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52880" y="5562720"/>
            <a:ext cx="1712880" cy="83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2039760" cy="1276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66680" y="2057400"/>
            <a:ext cx="99072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209680"/>
            <a:ext cx="6858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5715000"/>
            <a:ext cx="91440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unc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162920" y="4876920"/>
            <a:ext cx="1268280" cy="849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086600" y="3048120"/>
            <a:ext cx="1295280" cy="1238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086600" y="1676520"/>
            <a:ext cx="1238400" cy="911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38400" y="586728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ert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7720" y="518148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Fire Brig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66160" y="57150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41400" y="419112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42480" y="25909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362320"/>
            <a:ext cx="685800" cy="457200"/>
          </a:xfrm>
          <a:prstGeom prst="line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057400" y="2362320"/>
            <a:ext cx="533520" cy="0"/>
          </a:xfrm>
          <a:prstGeom prst="line">
            <a:avLst/>
          </a:prstGeom>
          <a:ln w="1908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2590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2590920"/>
            <a:ext cx="1752480" cy="533160"/>
          </a:xfrm>
          <a:prstGeom prst="line">
            <a:avLst/>
          </a:prstGeom>
          <a:ln w="9360">
            <a:solidFill>
              <a:srgbClr val="008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371240" y="2666880"/>
            <a:ext cx="152280" cy="381240"/>
          </a:xfrm>
          <a:prstGeom prst="line">
            <a:avLst/>
          </a:prstGeom>
          <a:ln cap="rnd" w="19080">
            <a:solidFill>
              <a:srgbClr val="008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600200" y="3200400"/>
            <a:ext cx="2209680" cy="76320"/>
          </a:xfrm>
          <a:prstGeom prst="line">
            <a:avLst/>
          </a:prstGeom>
          <a:ln cap="rnd" w="9360">
            <a:solidFill>
              <a:srgbClr val="008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600200" y="2514600"/>
            <a:ext cx="1295280" cy="685800"/>
          </a:xfrm>
          <a:prstGeom prst="line">
            <a:avLst/>
          </a:prstGeom>
          <a:ln cap="rnd" w="9360">
            <a:solidFill>
              <a:srgbClr val="008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666520" y="3657600"/>
            <a:ext cx="1143000" cy="5335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1752480"/>
            <a:ext cx="99036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su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276720" y="1905120"/>
            <a:ext cx="1371600" cy="38088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00600" y="2361960"/>
            <a:ext cx="2209680" cy="68580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1905120"/>
            <a:ext cx="1371600" cy="30456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572000" y="2209680"/>
            <a:ext cx="380880" cy="53352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3200400"/>
            <a:ext cx="2286000" cy="457200"/>
          </a:xfrm>
          <a:prstGeom prst="line">
            <a:avLst/>
          </a:prstGeom>
          <a:ln cap="rnd" w="9360">
            <a:solidFill>
              <a:srgbClr val="008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3200400"/>
            <a:ext cx="2514600" cy="1752480"/>
          </a:xfrm>
          <a:prstGeom prst="line">
            <a:avLst/>
          </a:prstGeom>
          <a:ln cap="rnd" w="9360">
            <a:solidFill>
              <a:srgbClr val="008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581280"/>
            <a:ext cx="685800" cy="609840"/>
          </a:xfrm>
          <a:prstGeom prst="line">
            <a:avLst/>
          </a:prstGeom>
          <a:ln cap="rnd" w="9360">
            <a:solidFill>
              <a:srgbClr val="008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666880"/>
            <a:ext cx="457200" cy="1524240"/>
          </a:xfrm>
          <a:prstGeom prst="line">
            <a:avLst/>
          </a:prstGeom>
          <a:ln cap="rnd" w="9360">
            <a:solidFill>
              <a:srgbClr val="008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371240" y="4572000"/>
            <a:ext cx="685800" cy="5335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371600" y="5257800"/>
            <a:ext cx="990720" cy="45720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514600" y="4952880"/>
            <a:ext cx="0" cy="53352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5715000"/>
            <a:ext cx="76212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4952880"/>
            <a:ext cx="838080" cy="76212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4724280"/>
            <a:ext cx="2209680" cy="91440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5181480"/>
            <a:ext cx="3886200" cy="45720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4038480"/>
            <a:ext cx="1143000" cy="609840"/>
          </a:xfrm>
          <a:prstGeom prst="rect">
            <a:avLst/>
          </a:pr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1523880"/>
            <a:ext cx="1600200" cy="5335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cc00"/>
                </a:solidFill>
                <a:latin typeface="Times New Roman"/>
              </a:rPr>
              <a:t>Risk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cc00"/>
                </a:solidFill>
                <a:latin typeface="Times New Roman"/>
              </a:rPr>
              <a:t>Surv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62485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4120" y="4038480"/>
            <a:ext cx="1162080" cy="580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cc"/>
                </a:solidFill>
                <a:latin typeface="Times New Roman"/>
              </a:rPr>
              <a:t>Life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66cc"/>
                </a:solidFill>
                <a:latin typeface="Times New Roman"/>
              </a:rPr>
              <a:t>Compl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29400" y="5486400"/>
            <a:ext cx="533520" cy="38088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6431040"/>
            <a:ext cx="290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d by Andre Mierzwa - FM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5470200">
            <a:off x="8305920" y="609624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endix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54:10Z</dcterms:created>
  <dc:creator>A Mierzwa</dc:creator>
  <dc:description/>
  <dc:language>en-US</dc:language>
  <cp:lastModifiedBy>meibisch</cp:lastModifiedBy>
  <dcterms:modified xsi:type="dcterms:W3CDTF">2004-06-16T07:42:05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20776079</vt:r8>
  </property>
  <property fmtid="{D5CDD505-2E9C-101B-9397-08002B2CF9AE}" pid="3" name="_AuthorEmail">
    <vt:lpwstr>meibisch@pc.gov.au</vt:lpwstr>
  </property>
  <property fmtid="{D5CDD505-2E9C-101B-9397-08002B2CF9AE}" pid="4" name="_AuthorEmailDisplayName">
    <vt:lpwstr>Eibisch, Maggie</vt:lpwstr>
  </property>
  <property fmtid="{D5CDD505-2E9C-101B-9397-08002B2CF9AE}" pid="5" name="_EmailSubject">
    <vt:lpwstr>Building subs 36-40</vt:lpwstr>
  </property>
  <property fmtid="{D5CDD505-2E9C-101B-9397-08002B2CF9AE}" pid="6" name="_PreviousAdHocReviewCycleID">
    <vt:r8>-1483630227</vt:r8>
  </property>
</Properties>
</file>