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6002000" cy="11314113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9920" y="451440"/>
            <a:ext cx="1440144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9920" y="2647440"/>
            <a:ext cx="14401440" cy="31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9920" y="6075000"/>
            <a:ext cx="14401440" cy="31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9920" y="451440"/>
            <a:ext cx="1440144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9920" y="2647440"/>
            <a:ext cx="7027560" cy="31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79200" y="2647440"/>
            <a:ext cx="7027560" cy="31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9920" y="6075000"/>
            <a:ext cx="7027560" cy="31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79200" y="6075000"/>
            <a:ext cx="7027560" cy="31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9920" y="451440"/>
            <a:ext cx="1440144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9920" y="2647440"/>
            <a:ext cx="4637160" cy="31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69280" y="2647440"/>
            <a:ext cx="4637160" cy="31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538640" y="2647440"/>
            <a:ext cx="4637160" cy="31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9920" y="6075000"/>
            <a:ext cx="4637160" cy="31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69280" y="6075000"/>
            <a:ext cx="4637160" cy="31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538640" y="6075000"/>
            <a:ext cx="4637160" cy="31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9920" y="451440"/>
            <a:ext cx="1440144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9920" y="2647440"/>
            <a:ext cx="14401440" cy="65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9920" y="451440"/>
            <a:ext cx="1440144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9920" y="2647440"/>
            <a:ext cx="14401440" cy="65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9920" y="451440"/>
            <a:ext cx="1440144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9920" y="2647440"/>
            <a:ext cx="7027560" cy="65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79200" y="2647440"/>
            <a:ext cx="7027560" cy="65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9920" y="451440"/>
            <a:ext cx="1440144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99920" y="451440"/>
            <a:ext cx="14401440" cy="87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9920" y="451440"/>
            <a:ext cx="1440144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9920" y="2647440"/>
            <a:ext cx="7027560" cy="31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79200" y="2647440"/>
            <a:ext cx="7027560" cy="65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9920" y="6075000"/>
            <a:ext cx="7027560" cy="31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9920" y="451440"/>
            <a:ext cx="1440144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9920" y="2647440"/>
            <a:ext cx="7027560" cy="65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79200" y="2647440"/>
            <a:ext cx="7027560" cy="31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79200" y="6075000"/>
            <a:ext cx="7027560" cy="31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9920" y="451440"/>
            <a:ext cx="1440144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9920" y="2647440"/>
            <a:ext cx="7027560" cy="31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79200" y="2647440"/>
            <a:ext cx="7027560" cy="31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9920" y="6075000"/>
            <a:ext cx="14401440" cy="31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296280"/>
            <a:ext cx="16002000" cy="201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533520"/>
            <a:ext cx="141732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roved Glazing Performance – The Key to Achieving 5 St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2115800" y="9869400"/>
            <a:ext cx="3600360" cy="12556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9220320" y="10134720"/>
            <a:ext cx="2147760" cy="8776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6858000" y="10058400"/>
            <a:ext cx="1874880" cy="93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201400" y="4649760"/>
            <a:ext cx="4116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Art photo here…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297080"/>
            <a:ext cx="119635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9372600"/>
            <a:ext cx="13868280" cy="380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6240" rIns="156240" tIns="78120" bIns="78120" anchor="t">
            <a:normAutofit/>
          </a:bodyPr>
          <a:p>
            <a:pPr marL="9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286000" y="2438280"/>
            <a:ext cx="11506320" cy="6027840"/>
            <a:chOff x="2286000" y="2438280"/>
            <a:chExt cx="11506320" cy="602784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2286000" y="2438280"/>
              <a:ext cx="11417400" cy="602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763120" y="6705720"/>
              <a:ext cx="5029200" cy="107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Type A Glass, U-Value = 6.0 W/m</a:t>
              </a:r>
              <a:r>
                <a:rPr b="1" lang="en-US" sz="1600" spc="-1" strike="noStrike" baseline="30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K, SC = 0.9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Type B Glass, U-Value = 5.8 W/m</a:t>
              </a:r>
              <a:r>
                <a:rPr b="1" lang="en-US" sz="1600" spc="-1" strike="noStrike" baseline="30000">
                  <a:solidFill>
                    <a:srgbClr val="009900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K, SC = 0.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162080" y="2495520"/>
            <a:ext cx="1066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Glazing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887040" y="2019240"/>
            <a:ext cx="799920" cy="933120"/>
            <a:chOff x="9887040" y="2019240"/>
            <a:chExt cx="799920" cy="933120"/>
          </a:xfrm>
        </p:grpSpPr>
        <p:sp>
          <p:nvSpPr>
            <p:cNvPr id="49" name=""/>
            <p:cNvSpPr/>
            <p:nvPr/>
          </p:nvSpPr>
          <p:spPr>
            <a:xfrm flipV="1">
              <a:off x="9887040" y="2476080"/>
              <a:ext cx="304560" cy="47628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210680" y="201924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047600" y="0"/>
            <a:ext cx="118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TACHMENT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28800" y="9372600"/>
            <a:ext cx="13868280" cy="380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6240" rIns="156240" tIns="78120" bIns="78120" anchor="t">
            <a:normAutofit/>
          </a:bodyPr>
          <a:p>
            <a:pPr marL="9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666880" y="2971800"/>
            <a:ext cx="11811240" cy="6064200"/>
            <a:chOff x="2666880" y="2971800"/>
            <a:chExt cx="11811240" cy="60642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2666880" y="2971800"/>
              <a:ext cx="11811240" cy="606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flipH="1" flipV="1">
              <a:off x="3642840" y="4667040"/>
              <a:ext cx="119160" cy="618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3657600" y="4671720"/>
              <a:ext cx="9144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890960" y="4248000"/>
              <a:ext cx="571680" cy="34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523880" y="2895480"/>
            <a:ext cx="131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Improved glass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887040" y="2019240"/>
            <a:ext cx="799920" cy="933120"/>
            <a:chOff x="9887040" y="2019240"/>
            <a:chExt cx="799920" cy="933120"/>
          </a:xfrm>
        </p:grpSpPr>
        <p:sp>
          <p:nvSpPr>
            <p:cNvPr id="60" name=""/>
            <p:cNvSpPr/>
            <p:nvPr/>
          </p:nvSpPr>
          <p:spPr>
            <a:xfrm flipV="1">
              <a:off x="9887040" y="2476080"/>
              <a:ext cx="304560" cy="47628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210680" y="201924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085760" y="228600"/>
            <a:ext cx="788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TACHME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28800" y="2828880"/>
            <a:ext cx="12192120" cy="6902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828800" y="9372600"/>
            <a:ext cx="13868280" cy="380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6240" rIns="156240" tIns="78120" bIns="78120" anchor="t">
            <a:normAutofit/>
          </a:bodyPr>
          <a:p>
            <a:pPr marL="9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1752480"/>
            <a:ext cx="1310652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10000"/>
                </a:solidFill>
                <a:latin typeface="Arial"/>
              </a:rPr>
              <a:t>NatHERS star ratings with improved glazing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10000"/>
                </a:solidFill>
                <a:latin typeface="Arial"/>
              </a:rPr>
              <a:t>Typical floor levels 10 to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0706040" y="3219480"/>
            <a:ext cx="799920" cy="933120"/>
            <a:chOff x="10706040" y="3219480"/>
            <a:chExt cx="799920" cy="933120"/>
          </a:xfrm>
        </p:grpSpPr>
        <p:sp>
          <p:nvSpPr>
            <p:cNvPr id="67" name=""/>
            <p:cNvSpPr/>
            <p:nvPr/>
          </p:nvSpPr>
          <p:spPr>
            <a:xfrm flipV="1">
              <a:off x="10706040" y="3676320"/>
              <a:ext cx="304560" cy="47628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029680" y="321948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971640" y="0"/>
            <a:ext cx="57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TACHMENT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0" y="2571840"/>
            <a:ext cx="1064880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st and Marketing Im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dditional Cost to the development is approximate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$10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loor are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partment prices in the order of $5000/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loor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public awareness and concern about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ior 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ior thermal and visual 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0"/>
            <a:ext cx="64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TACHMENT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05:57:05Z</dcterms:created>
  <dc:creator/>
  <dc:description/>
  <dc:language>en-US</dc:language>
  <cp:lastModifiedBy> </cp:lastModifiedBy>
  <cp:lastPrinted>2004-11-08T06:25:12Z</cp:lastPrinted>
  <dcterms:modified xsi:type="dcterms:W3CDTF">2004-11-15T04:54:52Z</dcterms:modified>
  <cp:revision>160</cp:revision>
  <dc:subject/>
  <dc:title>sub016 agga att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83934841</vt:r8>
  </property>
  <property fmtid="{D5CDD505-2E9C-101B-9397-08002B2CF9AE}" pid="3" name="_AuthorEmail">
    <vt:lpwstr>drance@pc.gov.au</vt:lpwstr>
  </property>
  <property fmtid="{D5CDD505-2E9C-101B-9397-08002B2CF9AE}" pid="4" name="_AuthorEmailDisplayName">
    <vt:lpwstr>Rance, Delwyn</vt:lpwstr>
  </property>
  <property fmtid="{D5CDD505-2E9C-101B-9397-08002B2CF9AE}" pid="5" name="_EmailSubject">
    <vt:lpwstr>Replacement sub016</vt:lpwstr>
  </property>
</Properties>
</file>