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848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116000" y="3372120"/>
            <a:ext cx="7848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37920" y="134136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116000" y="337212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37920" y="337212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25272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769920" y="1341360"/>
            <a:ext cx="25272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23840" y="1341360"/>
            <a:ext cx="25272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116000" y="3372120"/>
            <a:ext cx="25272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769920" y="3372120"/>
            <a:ext cx="25272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23840" y="3372120"/>
            <a:ext cx="252720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116000" y="1341360"/>
            <a:ext cx="7848720" cy="388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7848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8300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37920" y="1341360"/>
            <a:ext cx="38300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16000" y="274680"/>
            <a:ext cx="784872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37920" y="1341360"/>
            <a:ext cx="38300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116000" y="337212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83004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37920" y="134136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37920" y="337212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6000" y="134136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37920" y="1341360"/>
            <a:ext cx="383004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16000" y="3372120"/>
            <a:ext cx="7848720" cy="18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240" y="3240"/>
            <a:ext cx="9136080" cy="685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16000" y="274680"/>
            <a:ext cx="784872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16000" y="1341360"/>
            <a:ext cx="7848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772400" cy="41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187280" y="3141720"/>
            <a:ext cx="7956720" cy="249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by 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Rheem Australia Pty Ltd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d4d4d"/>
                </a:solidFill>
                <a:latin typeface="Arial"/>
              </a:rPr>
              <a:t>Nov 2004</a:t>
            </a:r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25992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476000" y="1557000"/>
            <a:ext cx="748836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Recommendation 2.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Cont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rovide financial incentive schemes to reduce the capital cost of SWHs and HPWH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Incentive to purchase a SWH or HPWH for replacement in existing and new building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n alternative or addition to the RECs scheme could be a scheme to tax the purchase of low efficiency models to fund high efficiency models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5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187280" y="1844280"/>
            <a:ext cx="777744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Recommendation 3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Harmonise the various rating systems for SWHs and HPWH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re is an expanding range of performance rating systems employed by regulators and ORER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is leads to purchaser confusion, and increases conformance costs for supplier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se rating systems should be harmonised in Australian standard AS4234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116000" y="1773000"/>
            <a:ext cx="7848720" cy="386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Recommendation 4</a:t>
            </a: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Communicate the benefits of SWHs and HPWHs to purchaser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re is widespread ignorance and misconception amongst purchasers regarding the costs and benefits of SWHs and HPWHs, including the financial incentive systems that are available and potential return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A national information programme should be undertaken, directed at building owners, builders and plumbers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SWH and HPWH industry is simply not large enough at this time to sustain the advertising campaign necessary to convert the market.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58560" y="1989000"/>
            <a:ext cx="770580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Recommendation 5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Increase the MEPS level for gas water heater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Current regulations; min.1 Star AGA energy efficiency rating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Virtually all gas water heaters rating of 3, 4 or 5 Star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gulations should be amended to require at least 4 Star rating within 18 month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Later min.5 Stars or beyond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Requires significant capital expenditure in order to meet the increase volume demand, and would require significant consultation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32000" y="1844280"/>
            <a:ext cx="763272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4d4d4d"/>
                </a:solidFill>
                <a:uFillTx/>
                <a:latin typeface="Arial"/>
              </a:rPr>
              <a:t>Recommendation 6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4d4d"/>
                </a:solidFill>
                <a:latin typeface="Arial"/>
              </a:rPr>
              <a:t>Increase the market price for excess consumption of electricity and ga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ariffs should be set with increasing rates for excess consumption, thus encouraging the use of high efficiency appliances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marginal revenue collected should be a payment which is used to fund financial incentives for purchase of high efficiency appliances including water heaters.  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The very low tariffs for off peak electricity in some States should be revised to higher rates more consistent with the true costs of supply.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7724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916280" y="3500280"/>
            <a:ext cx="6400800" cy="213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d4d4d"/>
                </a:solidFill>
                <a:latin typeface="Arial"/>
              </a:rPr>
              <a:t>The End</a:t>
            </a:r>
            <a:endParaRPr b="0" lang="en-US" sz="4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7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915920" y="2852280"/>
            <a:ext cx="6903720" cy="30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Subject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Company profil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market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product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Product Efficiencie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Recommendations.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d4d4d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76000" y="2205000"/>
            <a:ext cx="734364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Company Profil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Rheem Aust.; JV  Rheem US &amp; Paloma Japan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3 Plants in Australia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Brands; Rheem, Solahart, Vulcan, Raypak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Manufacture; Domestic and Commercial WH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1999 Galaxy Award; Company and Products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86920" y="2492280"/>
            <a:ext cx="7488360" cy="314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The market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75% breakdown - “grudge”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25% new homes – considered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pprox.30% households are rented where the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decision maker is interested capital not energy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Water heaters consume approx.40% of energy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87280" y="2205000"/>
            <a:ext cx="777744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The product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ype; Gas, Electric, Solar, HP water heater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torage and Instantaneou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lectric; MEP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Gas; AGA certified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olar &amp;HP; AS2712 to gain REC’s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22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187280" y="2707920"/>
            <a:ext cx="7956720" cy="350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d4d4d"/>
                </a:solidFill>
                <a:uFillTx/>
                <a:latin typeface="Arial"/>
              </a:rPr>
              <a:t>Product Efficiencies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Electric; element is 100% - 10% heat loss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Gas ; Star rating T/E min. 70% to 90% - 30% heat loss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4d4d4d"/>
                </a:solidFill>
                <a:latin typeface="Arial"/>
              </a:rPr>
              <a:t>Solar &amp; Heat Pumps; 300%.</a:t>
            </a: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87280" y="25992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03280" y="1844280"/>
            <a:ext cx="7740720" cy="37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Recommendation 1.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Establish national building regulations to actively encourage the installation of SWHs and HPWHs in new buildings and in major renovation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Occurred in Victoria and NSW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Extended to the other States.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BASIX system increase the points allocation        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for SWHs and HPWH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87280" y="404640"/>
            <a:ext cx="77724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32000" y="1773360"/>
            <a:ext cx="741672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Recommendation 2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rovide financial incentive systems to reduce the capital cost of SWHs and HPWH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Need not be funded by government in order to be effective; eg.  RECs schem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capital cost of SWHs and HPWHs is significantly higher - a deterrent to purchase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The replacement market is a “grudge” purchase 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87280" y="404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d4d4d"/>
                </a:solidFill>
                <a:latin typeface="Arial"/>
              </a:rPr>
              <a:t>Inquiry into Energy Efficiency </a:t>
            </a:r>
            <a:endParaRPr b="0" lang="en-US" sz="36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76360" y="1915920"/>
            <a:ext cx="7416720" cy="38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d4d4d"/>
                </a:solidFill>
                <a:uFillTx/>
                <a:latin typeface="Arial"/>
              </a:rPr>
              <a:t>Recommendation 2.</a:t>
            </a: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 Cont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4d4d"/>
                </a:solidFill>
                <a:latin typeface="Arial"/>
              </a:rPr>
              <a:t>Provide financial incentive systems which reduce the capital cost of SWHs and HPWH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chemes should provide incentive to purchase a SWH or HPWH for existing and new building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An alternative or addition to the RECs scheme, consider a scheme to tax the purchase of low efficiency model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4d4d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d4d4d"/>
                </a:solidFill>
                <a:latin typeface="Arial"/>
              </a:rPr>
              <a:t>So to provide the funds for incentive schemes for purchasers of higher efficiency models.</a:t>
            </a: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05:20:49Z</dcterms:created>
  <dc:creator/>
  <dc:description/>
  <dc:language>en-US</dc:language>
  <cp:lastModifiedBy> </cp:lastModifiedBy>
  <dcterms:modified xsi:type="dcterms:W3CDTF">2004-11-25T00:29:39Z</dcterms:modified>
  <cp:revision>23</cp:revision>
  <dc:subject/>
  <dc:title>sub046 rheem aust attachment</dc:title>
</cp:coreProperties>
</file>