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E021-818F-43C7-A282-30C9243BB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14040" y="423036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F3F1-8495-43DD-9BBC-DF972D048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040" y="423036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818960" y="423036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8439-A6A5-4CC7-9904-60C9317D8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90560" y="152388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67080" y="152388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14040" y="423036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90560" y="423036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67080" y="423036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483F-B9A2-45EE-9129-E5A8F1835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040" y="423036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0AA0-AE4B-4EB6-BC5C-E9638996A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18960" y="423036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040" y="423036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040" y="423036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040" y="423036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18960" y="423036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90560" y="152388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67080" y="152388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040" y="423036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90560" y="423036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67080" y="423036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BD50-244A-4A4A-96B1-51F7432C5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6579-D5FD-4884-985E-A241F3FBA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0530-5B62-43A1-8DCE-64182B629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BC73-31EE-4462-B213-9CCDA9685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23036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DF68-7C9E-40A5-A1AF-7D4241D08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818960" y="423036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6482-1D75-40E3-BA06-7B2525023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8960" y="152388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14040" y="423036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D394-2037-480F-BA49-5ABEAD624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667720" y="6858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100080" cy="68580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716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8288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22860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7432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2004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6576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41148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45720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0292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54864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59436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6400800"/>
            <a:ext cx="100080" cy="228600"/>
          </a:xfrm>
          <a:prstGeom prst="rect">
            <a:avLst/>
          </a:prstGeom>
          <a:solidFill>
            <a:srgbClr val="b5c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1"/>
          <p:cNvSpPr>
            <a:spLocks noGrp="1"/>
          </p:cNvSpPr>
          <p:nvPr>
            <p:ph type="sldNum" idx="1"/>
          </p:nvPr>
        </p:nvSpPr>
        <p:spPr>
          <a:xfrm>
            <a:off x="8534160" y="6705360"/>
            <a:ext cx="533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72BE-6F23-4CE9-8EDC-C63D71E890A2}" type="slidenum">
              <a:rPr b="0" lang="en-US" sz="8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914040" y="15238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993300"/>
              </a:buClr>
              <a:buSzPct val="6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buClr>
                <a:srgbClr val="330099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buClr>
                <a:srgbClr val="330099"/>
              </a:buClr>
              <a:buSzPct val="80000"/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buClr>
                <a:srgbClr val="330099"/>
              </a:buClr>
              <a:buSzPct val="70000"/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buClr>
                <a:srgbClr val="330099"/>
              </a:buClr>
              <a:buSzPct val="70000"/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1" i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-152280" y="1357200"/>
            <a:ext cx="8737560" cy="17280"/>
            <a:chOff x="-152280" y="1357200"/>
            <a:chExt cx="8737560" cy="17280"/>
          </a:xfrm>
        </p:grpSpPr>
        <p:sp>
          <p:nvSpPr>
            <p:cNvPr id="22" name=""/>
            <p:cNvSpPr/>
            <p:nvPr/>
          </p:nvSpPr>
          <p:spPr>
            <a:xfrm flipV="1">
              <a:off x="-152280" y="1356840"/>
              <a:ext cx="5038560" cy="172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c2610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4267440" y="1356840"/>
              <a:ext cx="4317840" cy="17280"/>
            </a:xfrm>
            <a:prstGeom prst="rect">
              <a:avLst/>
            </a:prstGeom>
            <a:gradFill rotWithShape="0">
              <a:gsLst>
                <a:gs pos="0">
                  <a:srgbClr val="d7e1f5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-152280" y="1356840"/>
            <a:ext cx="8737560" cy="17640"/>
            <a:chOff x="-152280" y="1356840"/>
            <a:chExt cx="8737560" cy="17640"/>
          </a:xfrm>
        </p:grpSpPr>
        <p:sp>
          <p:nvSpPr>
            <p:cNvPr id="25" name=""/>
            <p:cNvSpPr/>
            <p:nvPr/>
          </p:nvSpPr>
          <p:spPr>
            <a:xfrm flipV="1">
              <a:off x="-152280" y="1356120"/>
              <a:ext cx="5038560" cy="17640"/>
            </a:xfrm>
            <a:prstGeom prst="rect">
              <a:avLst/>
            </a:prstGeom>
            <a:gradFill rotWithShape="0">
              <a:gsLst>
                <a:gs pos="0">
                  <a:srgbClr val="c26100"/>
                </a:gs>
                <a:gs pos="50000">
                  <a:srgbClr val="000099"/>
                </a:gs>
                <a:gs pos="100000">
                  <a:srgbClr val="c26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V="1">
              <a:off x="4267440" y="1356120"/>
              <a:ext cx="4317840" cy="17640"/>
            </a:xfrm>
            <a:prstGeom prst="rect">
              <a:avLst/>
            </a:prstGeom>
            <a:gradFill rotWithShape="0">
              <a:gsLst>
                <a:gs pos="0">
                  <a:srgbClr val="d7e1f5"/>
                </a:gs>
                <a:gs pos="100000">
                  <a:srgbClr val="c26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371600"/>
            <a:ext cx="9144000" cy="2514600"/>
          </a:xfrm>
          <a:prstGeom prst="rect">
            <a:avLst/>
          </a:prstGeom>
          <a:solidFill>
            <a:srgbClr val="bdccf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469360" y="6183360"/>
            <a:ext cx="515880" cy="5158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0" y="0"/>
            <a:ext cx="100080" cy="6858000"/>
            <a:chOff x="0" y="0"/>
            <a:chExt cx="100080" cy="685800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100080" cy="68580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4572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9144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3716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8288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22860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7432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2004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6576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41148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45720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0292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54864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9436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400800"/>
              <a:ext cx="100080" cy="228600"/>
            </a:xfrm>
            <a:prstGeom prst="rect">
              <a:avLst/>
            </a:prstGeom>
            <a:solidFill>
              <a:srgbClr val="b5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0" y="1357200"/>
            <a:ext cx="8737560" cy="17280"/>
            <a:chOff x="0" y="1357200"/>
            <a:chExt cx="8737560" cy="17280"/>
          </a:xfrm>
        </p:grpSpPr>
        <p:sp>
          <p:nvSpPr>
            <p:cNvPr id="84" name=""/>
            <p:cNvSpPr/>
            <p:nvPr/>
          </p:nvSpPr>
          <p:spPr>
            <a:xfrm flipV="1">
              <a:off x="0" y="1356840"/>
              <a:ext cx="5038560" cy="172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c2610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419720" y="1356840"/>
              <a:ext cx="4317840" cy="17280"/>
            </a:xfrm>
            <a:prstGeom prst="rect">
              <a:avLst/>
            </a:prstGeom>
            <a:gradFill rotWithShape="0">
              <a:gsLst>
                <a:gs pos="0">
                  <a:srgbClr val="d7e1f5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0099"/>
                </a:solidFill>
                <a:latin typeface="Arial"/>
              </a:rPr>
              <a:t>Click to edit the title text format</a:t>
            </a:r>
            <a:endParaRPr b="1" i="1" lang="en-US" sz="6000" spc="-1" strike="noStrike">
              <a:solidFill>
                <a:srgbClr val="3300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3886200"/>
            <a:ext cx="8737560" cy="17280"/>
            <a:chOff x="0" y="3886200"/>
            <a:chExt cx="8737560" cy="17280"/>
          </a:xfrm>
        </p:grpSpPr>
        <p:sp>
          <p:nvSpPr>
            <p:cNvPr id="88" name=""/>
            <p:cNvSpPr/>
            <p:nvPr/>
          </p:nvSpPr>
          <p:spPr>
            <a:xfrm flipV="1">
              <a:off x="0" y="3886200"/>
              <a:ext cx="5038560" cy="172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c2610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19720" y="3886200"/>
              <a:ext cx="4317840" cy="17280"/>
            </a:xfrm>
            <a:prstGeom prst="rect">
              <a:avLst/>
            </a:prstGeom>
            <a:gradFill rotWithShape="0">
              <a:gsLst>
                <a:gs pos="0">
                  <a:srgbClr val="d7e1f5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1356840"/>
            <a:ext cx="8737560" cy="2546640"/>
            <a:chOff x="0" y="1356840"/>
            <a:chExt cx="8737560" cy="2546640"/>
          </a:xfrm>
        </p:grpSpPr>
        <p:grpSp>
          <p:nvGrpSpPr>
            <p:cNvPr id="91" name=""/>
            <p:cNvGrpSpPr/>
            <p:nvPr/>
          </p:nvGrpSpPr>
          <p:grpSpPr>
            <a:xfrm>
              <a:off x="0" y="3885840"/>
              <a:ext cx="8737560" cy="17640"/>
              <a:chOff x="0" y="3885840"/>
              <a:chExt cx="8737560" cy="1764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0" y="3885480"/>
                <a:ext cx="5038560" cy="17640"/>
              </a:xfrm>
              <a:prstGeom prst="rect">
                <a:avLst/>
              </a:prstGeom>
              <a:gradFill rotWithShape="0">
                <a:gsLst>
                  <a:gs pos="0">
                    <a:srgbClr val="c26100"/>
                  </a:gs>
                  <a:gs pos="50000">
                    <a:srgbClr val="000099"/>
                  </a:gs>
                  <a:gs pos="100000">
                    <a:srgbClr val="c26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4419720" y="3885480"/>
                <a:ext cx="4317840" cy="17640"/>
              </a:xfrm>
              <a:prstGeom prst="rect">
                <a:avLst/>
              </a:prstGeom>
              <a:gradFill rotWithShape="0">
                <a:gsLst>
                  <a:gs pos="0">
                    <a:srgbClr val="d7e1f5"/>
                  </a:gs>
                  <a:gs pos="100000">
                    <a:srgbClr val="c26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1356840"/>
              <a:ext cx="8737560" cy="17640"/>
              <a:chOff x="0" y="1356840"/>
              <a:chExt cx="8737560" cy="1764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0" y="1356120"/>
                <a:ext cx="5038560" cy="17640"/>
              </a:xfrm>
              <a:prstGeom prst="rect">
                <a:avLst/>
              </a:prstGeom>
              <a:gradFill rotWithShape="0">
                <a:gsLst>
                  <a:gs pos="0">
                    <a:srgbClr val="c26100"/>
                  </a:gs>
                  <a:gs pos="50000">
                    <a:srgbClr val="000099"/>
                  </a:gs>
                  <a:gs pos="100000">
                    <a:srgbClr val="c26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4419720" y="1356120"/>
                <a:ext cx="4317840" cy="17640"/>
              </a:xfrm>
              <a:prstGeom prst="rect">
                <a:avLst/>
              </a:prstGeom>
              <a:gradFill rotWithShape="0">
                <a:gsLst>
                  <a:gs pos="0">
                    <a:srgbClr val="d7e1f5"/>
                  </a:gs>
                  <a:gs pos="100000">
                    <a:srgbClr val="c26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Infrastructure Charges as </a:t>
            </a:r>
            <a:br>
              <a:rPr sz="2800"/>
            </a:b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a Development Policy Instrument</a:t>
            </a:r>
            <a:endParaRPr b="1" i="1" lang="en-US" sz="2800" spc="-1" strike="noStrike">
              <a:solidFill>
                <a:srgbClr val="3300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4760" y="1371600"/>
          <a:ext cx="8240760" cy="50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371600"/>
                    <a:ext cx="824076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400800" y="466560"/>
            <a:ext cx="1752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330099"/>
                </a:solidFill>
                <a:latin typeface="Arial"/>
              </a:rPr>
              <a:t>Attachmen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DEVELOPMENT COSTS - GREENFIELDS</a:t>
            </a:r>
            <a:endParaRPr b="1" i="1" lang="en-US" sz="2800" spc="-1" strike="noStrike">
              <a:solidFill>
                <a:srgbClr val="33009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442880"/>
          <a:ext cx="5610240" cy="50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2880"/>
                    <a:ext cx="561024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781600" y="2133720"/>
            <a:ext cx="3362400" cy="3219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DEVELOPMENT COSTS - SUBURBAN UNITS</a:t>
            </a:r>
            <a:endParaRPr b="1" i="1" lang="en-US" sz="2800" spc="-1" strike="noStrike">
              <a:solidFill>
                <a:srgbClr val="3300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81600" y="2133720"/>
            <a:ext cx="3362400" cy="321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80880" y="1447920"/>
          <a:ext cx="5532480" cy="518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5532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DEVELOPMENT COSTS- INNER SUBURB UNIT</a:t>
            </a:r>
            <a:endParaRPr b="1" i="1" lang="en-US" sz="2800" spc="-1" strike="noStrike">
              <a:solidFill>
                <a:srgbClr val="3300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781600" y="2133720"/>
            <a:ext cx="3362400" cy="321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80880" y="1447920"/>
          <a:ext cx="5572080" cy="518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55720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DEVELOPMENT COSTS - CBD UNITS</a:t>
            </a:r>
            <a:endParaRPr b="1" i="1" lang="en-US" sz="2800" spc="-1" strike="noStrike">
              <a:solidFill>
                <a:srgbClr val="3300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81600" y="2133720"/>
            <a:ext cx="3362400" cy="321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57200" y="1447920"/>
          <a:ext cx="5513400" cy="518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5513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30099"/>
                </a:solidFill>
                <a:latin typeface="Arial"/>
              </a:rPr>
              <a:t>DEVELOPMENT COSTS</a:t>
            </a:r>
            <a:endParaRPr b="1" i="1" lang="en-US" sz="2800" spc="-1" strike="noStrike">
              <a:solidFill>
                <a:srgbClr val="33009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1600200"/>
          <a:ext cx="4114800" cy="373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411480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495680" y="1600200"/>
          <a:ext cx="4038840" cy="375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600200"/>
                    <a:ext cx="40388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371600" y="5486400"/>
          <a:ext cx="5935680" cy="695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486400"/>
                    <a:ext cx="59356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23:43:33Z</dcterms:created>
  <dc:creator>pocp44</dc:creator>
  <dc:description/>
  <dc:language>en-US</dc:language>
  <cp:lastModifiedBy>jsavvide</cp:lastModifiedBy>
  <cp:lastPrinted>2003-10-14T01:54:17Z</cp:lastPrinted>
  <dcterms:modified xsi:type="dcterms:W3CDTF">2003-10-29T05:07:09Z</dcterms:modified>
  <cp:revision>1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5701897</vt:r8>
  </property>
  <property fmtid="{D5CDD505-2E9C-101B-9397-08002B2CF9AE}" pid="3" name="_AuthorEmail">
    <vt:lpwstr>jsavvides@pc.gov.au</vt:lpwstr>
  </property>
  <property fmtid="{D5CDD505-2E9C-101B-9397-08002B2CF9AE}" pid="4" name="_AuthorEmailDisplayName">
    <vt:lpwstr>Savvides, Janet</vt:lpwstr>
  </property>
  <property fmtid="{D5CDD505-2E9C-101B-9397-08002B2CF9AE}" pid="5" name="_EmailSubject">
    <vt:lpwstr>Housing inquiry submissions</vt:lpwstr>
  </property>
</Properties>
</file>