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67D-2590-4457-B213-09D243E0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CB3-7C7A-4335-8645-1B491E68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858-A14B-4CAF-83A9-3369DC02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BB55-4385-446C-9680-D25C8578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FD5-D62C-40E5-9DBC-49C33235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AB1C-4769-4EBE-84DB-59F036FE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571-D267-4008-A889-67EE0117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60B2-02B4-4E6A-AAE6-1801336C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14E2-F132-4F97-B7F8-1990DFD3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2150-8743-455A-9FF3-EBF4D227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752-8475-46CB-86F3-49621FA7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344-A992-4FE7-AD29-598BB7FB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0559"/>
          <a:stretch/>
        </p:blipFill>
        <p:spPr>
          <a:xfrm>
            <a:off x="468360" y="907920"/>
            <a:ext cx="8353440" cy="5040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CCDE-3411-4988-B6ED-5B700D8BAD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692280"/>
            <a:ext cx="8062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PosterBodoni BT"/>
              </a:rPr>
              <a:t>ABP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PosterBodoni BT"/>
              </a:rPr>
              <a:t>the Dean’s Lecture Series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PosterBodoni BT"/>
              </a:rPr>
              <a:t>2005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AU" sz="4000" spc="-1" strike="noStrike">
                <a:solidFill>
                  <a:srgbClr val="a50021"/>
                </a:solidFill>
                <a:latin typeface="Verdana"/>
              </a:rPr>
              <a:t>The impact of heritage listing</a:t>
            </a:r>
            <a:br>
              <a:rPr sz="4000"/>
            </a:br>
            <a:r>
              <a:rPr b="0" lang="en-AU" sz="4000" spc="-1" strike="noStrike">
                <a:solidFill>
                  <a:srgbClr val="a50021"/>
                </a:solidFill>
                <a:latin typeface="Verdana"/>
              </a:rPr>
              <a:t>on property value</a:t>
            </a:r>
            <a:br>
              <a:rPr sz="4000"/>
            </a:br>
            <a:r>
              <a:rPr b="0" lang="en-AU" sz="40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i="1" lang="en-AU" sz="4000" spc="-1" strike="noStrike">
                <a:solidFill>
                  <a:srgbClr val="a50021"/>
                </a:solidFill>
                <a:latin typeface="Verdana"/>
              </a:rPr>
              <a:t>Dr Lynne Armitage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ff"/>
                </a:solidFill>
                <a:latin typeface="Verdana"/>
              </a:rPr>
              <a:t>3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47640" y="4149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1950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Verdana"/>
              </a:rPr>
              <a:t>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1950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Verdana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spcAft>
                <a:spcPts val="1950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Verdan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905440" cy="23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E4F-2650-4802-AE12-1B75ED78ED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0000ff"/>
                </a:solidFill>
                <a:latin typeface="Verdana"/>
              </a:rPr>
              <a:t>Methodologies</a:t>
            </a:r>
            <a:r>
              <a:rPr b="0" lang="en-A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1. This is a pilot study wh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reviews key domestic and international stud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elicits their scope, application an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spcAft>
                <a:spcPts val="561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evaluates the studies on basis of the transferability of their find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spcAft>
                <a:spcPts val="1125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and their replic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2. Using the material der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develops a framework for distinguishing a range of contextual conditions relevant to the assessment of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3. Reviews the availability and accessibility of data from heritage regist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4. Generates a specification for a subsequent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9DD7-656F-4FB6-9C6D-A7FCFC28D4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6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70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ff"/>
                </a:solidFill>
                <a:latin typeface="Verdana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ff"/>
                </a:solidFill>
                <a:latin typeface="Verdana"/>
              </a:rPr>
              <a:t>Common characteristics</a:t>
            </a: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building type – predominantly resid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geographical context – urban metropolita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other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frequent concern for attributing shifts in property value to the incidence of heritage li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624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impact of uncertainty due to li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validity of assessments of development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06C-A027-456D-B662-6511F4877F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6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ff"/>
                </a:solidFill>
                <a:latin typeface="Verdana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Variations and inconsistencies of data collected and method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Sample size of studies highly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Purpose of studies created inconsist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International context made comparisons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Relatively small sampl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2B1-AFEA-4233-BEBF-6E9C395988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Verdana"/>
              </a:rPr>
              <a:t>Valuation conc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Verdana"/>
              </a:rPr>
              <a:t>Limitations of studies revi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sample s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(except IPD: 10% of $75 billion of property over 18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age of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most studies lack statistical rig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prevalence of non-transactional values i.e. non-market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variations in degree and character of heritag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focus on the built environment may exclude impact of other factors on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spcAft>
                <a:spcPts val="624"/>
              </a:spcAft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residential focus of many studies may limit relevance for other land-use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no consistent method of valuation was ap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C1C-9631-4791-B951-AC47A47714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ff"/>
                </a:solidFill>
                <a:latin typeface="Verdana"/>
              </a:rPr>
              <a:t>4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7640" y="4149360"/>
            <a:ext cx="684072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2276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ff"/>
                </a:solidFill>
                <a:latin typeface="Verdana"/>
              </a:rPr>
              <a:t>Impacts o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spcAft>
                <a:spcPts val="2276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ff"/>
                </a:solidFill>
                <a:latin typeface="Verdana"/>
              </a:rPr>
              <a:t>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97160" y="1268280"/>
            <a:ext cx="634968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2DF1-0B6E-4FAA-BEDB-44439FF206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Verdana"/>
              </a:rPr>
              <a:t>Impacts on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market context is of paramount importance to the impact of listing on propert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marginal impact on residential property </a:t>
            </a:r>
            <a:r>
              <a:rPr b="0" i="1" lang="en-AU" sz="2800" spc="-1" strike="noStrike">
                <a:solidFill>
                  <a:srgbClr val="0000ff"/>
                </a:solidFill>
                <a:latin typeface="Verdana"/>
              </a:rPr>
              <a:t>(gross oversimplif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future value of asset more certain than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C922-15D0-45C5-9ADB-82FED11478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Verdana"/>
              </a:rPr>
              <a:t>Impacts on va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greater potential for negative impact on non-residential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nature of the heritage control is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0000ff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constraint to development potential (role of TD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Verdan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relative insignificance of li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490-1C7C-4ABE-B27C-39479694AF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ff"/>
                </a:solidFill>
                <a:latin typeface="Verdana"/>
              </a:rPr>
              <a:t>5 Policy initi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63280" y="4149360"/>
            <a:ext cx="6264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Queensland Stag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Vic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State and local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Corporate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8000" y="1341360"/>
            <a:ext cx="532800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07D-101A-4674-8A2A-7C249B6484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ff"/>
                </a:solidFill>
                <a:latin typeface="Verdana"/>
              </a:rPr>
              <a:t>Opportunit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Stage 2 of the Queensland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Application to the local, Victorian,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Suggestions for target clients for the subsequent research study/policy document: corporate real estate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Institutional owners of iconic premises – post offices, banks, government offices, church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CFB-18BB-4870-8D0A-C11217ADE6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ff"/>
                </a:solidFill>
                <a:latin typeface="Verdana"/>
              </a:rPr>
              <a:t>1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4149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301"/>
              </a:spcAft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ff"/>
                </a:solidFill>
                <a:latin typeface="Verdana"/>
              </a:rPr>
              <a:t>Introduction: structure of the talk, purpose and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301"/>
              </a:spcAft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ff"/>
                </a:solidFill>
                <a:latin typeface="Verdana"/>
              </a:rPr>
              <a:t>Perspectives: issues of concern; stakeholders; existing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301"/>
              </a:spcAft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ff"/>
                </a:solidFill>
                <a:latin typeface="Verdana"/>
              </a:rPr>
              <a:t>Boundaries: methodologies, variables,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301"/>
              </a:spcAft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ff"/>
                </a:solidFill>
                <a:latin typeface="Verdana"/>
              </a:rPr>
              <a:t>Findings, impacts on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301"/>
              </a:spcAft>
              <a:buClr>
                <a:srgbClr val="00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ff"/>
                </a:solidFill>
                <a:latin typeface="Verdana"/>
              </a:rPr>
              <a:t>Prospects for policy initiatives, development of the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40072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01C-2ED0-4FB3-8BB9-19379FCD17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5280" y="3895200"/>
            <a:ext cx="820908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Verdana"/>
              </a:rPr>
              <a:t>All offer of assistance regarding local contacts and opportunities for further research or consultancy warmly receiv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AU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AU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AU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AU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AU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AU" sz="1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en-AU" sz="1800" spc="-1" strike="noStrike">
                <a:solidFill>
                  <a:srgbClr val="0000ff"/>
                </a:solidFill>
                <a:latin typeface="Verdana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>
                <a:solidFill>
                  <a:srgbClr val="a50021"/>
                </a:solidFill>
                <a:latin typeface="Verdana"/>
              </a:rPr>
              <a:t>Lynne Armi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>
                <a:solidFill>
                  <a:srgbClr val="a50021"/>
                </a:solidFill>
                <a:latin typeface="Verdana"/>
              </a:rPr>
              <a:t>Faculty of Architecture, Building and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>
                <a:solidFill>
                  <a:srgbClr val="a50021"/>
                </a:solidFill>
                <a:latin typeface="Verdana"/>
              </a:rPr>
              <a:t>The University of Melbou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200" spc="-1" strike="noStrike">
                <a:solidFill>
                  <a:srgbClr val="a50021"/>
                </a:solidFill>
                <a:latin typeface="Verdana"/>
              </a:rPr>
              <a:t>l.armitage@unimelb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19280" y="692280"/>
            <a:ext cx="5761080" cy="30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EA0-E654-4849-93C6-E0F389B7E6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4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0"/>
                            </p:stCondLst>
                            <p:childTnLst>
                              <p:par>
                                <p:cTn id="5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ff"/>
                </a:solidFill>
                <a:latin typeface="Verdana"/>
              </a:rPr>
              <a:t>Purpose of th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a research report into the effects of heritage listing on property val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application: </a:t>
            </a: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to enhance guidelines for the management of cultural heritage in Queensland; policy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2801"/>
              </a:spcAft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funded by Cultural Heritage Branch, Queensland Environmental Protection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C673-9726-4F13-A58F-EDB9228A08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AU" sz="3400" spc="-1" strike="noStrike">
                <a:solidFill>
                  <a:srgbClr val="0000ff"/>
                </a:solidFill>
                <a:latin typeface="Verdana"/>
              </a:rPr>
              <a:t>Context </a:t>
            </a:r>
            <a:br>
              <a:rPr sz="3400"/>
            </a:br>
            <a:r>
              <a:rPr b="1" lang="en-AU" sz="3400" spc="-1" strike="noStrike">
                <a:solidFill>
                  <a:srgbClr val="0000ff"/>
                </a:solidFill>
                <a:latin typeface="Verdana"/>
              </a:rPr>
              <a:t> Queensland heritage background</a:t>
            </a:r>
            <a:r>
              <a:rPr b="0" lang="en-AU" sz="4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27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AU" sz="3600" spc="-1" strike="noStrike">
                <a:solidFill>
                  <a:srgbClr val="0000ff"/>
                </a:solidFill>
                <a:latin typeface="Verdana"/>
              </a:rPr>
              <a:t>Origins in planning sc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800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Verdana"/>
              </a:rPr>
              <a:t>1978: Brisbane – unspecified locations, part of the decision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1800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Verdana"/>
              </a:rPr>
              <a:t>1985: Cook Shire - DCP 31 listed pl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751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Verdana"/>
              </a:rPr>
              <a:t>1989: Brisbane Tow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90 sites listed for retention, all in CB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penalties for demol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ff"/>
                </a:solidFill>
                <a:latin typeface="Verdana"/>
              </a:rPr>
              <a:t>compensation recognised inc TD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56F-863C-45A6-8169-553FC2341A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ff"/>
                </a:solidFill>
                <a:latin typeface="Arial"/>
              </a:rPr>
              <a:t>1990 broader legislative controls introduc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AU" sz="2200" spc="-1" strike="noStrike">
                <a:solidFill>
                  <a:srgbClr val="0000ff"/>
                </a:solidFill>
                <a:latin typeface="Verdana"/>
              </a:rPr>
              <a:t>Heritage Building Protection Act 1990</a:t>
            </a:r>
            <a:r>
              <a:rPr b="0" lang="en-A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2 year sunset clause; introduced an interim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Verdana"/>
              </a:rPr>
              <a:t>Queensland Heritage Act 1992</a:t>
            </a:r>
            <a:r>
              <a:rPr b="0" lang="en-AU" sz="24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current legislation: places of State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Queensland Heritage Register - ‘the state register’ – approx 1300 li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prior approval for carrying out a variety of works including demolition, alterations and ad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provisional listings and inj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benefits: reduced rates and land tax; tax rebates for approved conservation expendi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Verdana"/>
              </a:rPr>
              <a:t>Current situation under local planning sche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Diverse – refer Heritage Registe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3FC-08B7-48D8-919B-04431A0C73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9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ff"/>
                </a:solidFill>
                <a:latin typeface="Arial"/>
              </a:rPr>
              <a:t>2 Persp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640" y="414936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9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Arial"/>
              </a:rPr>
              <a:t>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9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Arial"/>
              </a:rPr>
              <a:t>Issues of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95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Arial"/>
              </a:rPr>
              <a:t>Existing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616720" cy="247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7A3-CF68-4B4C-B9B1-A67F7987D8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ff"/>
                </a:solidFill>
                <a:latin typeface="Arial"/>
              </a:rPr>
              <a:t>Stakehol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Individually and in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Owners: individuals, corporate, public and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Rate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Vo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The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The gatekee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ff"/>
                </a:solidFill>
                <a:latin typeface="Arial"/>
              </a:rPr>
              <a:t>state and local authorities, mortgage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Special interest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Those yet to be b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ff"/>
                </a:solidFill>
                <a:latin typeface="Arial"/>
              </a:rPr>
              <a:t>Characterised by their diversity of inte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A74-1880-4EC2-8036-AC470E25AA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9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Verdana"/>
              </a:rPr>
              <a:t>Issues of conc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ff"/>
                </a:solidFill>
                <a:latin typeface="Verdana"/>
              </a:rPr>
              <a:t>Constraints – actual and per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impact on property val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impact on development potential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concerns over heavy hand of bureaucrac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901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highly variable in the detail between schemes beyond the requirement to conserve the visible exterior of the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ff"/>
                </a:solidFill>
                <a:latin typeface="Verdana"/>
              </a:rPr>
              <a:t>Limited comfort of inducemen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expansion of lawful use r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relaxations of development obligations or restrictions on site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floorspace bonuses and transferable development rights (TD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reduced local authority development fees or free heritage ad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137-6745-419C-A02D-0FF0621FFA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Verdana"/>
              </a:rPr>
              <a:t>Studies review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3534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Verdana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timeframe: 1990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25 reports and articles re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a 160 entry bibliography generated, 20% having a TDR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mostly Australian – predominantly Victorian, two from the USA and one (continuing) from the 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small size of the sample recogn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ff"/>
                </a:solidFill>
                <a:latin typeface="Verdana"/>
              </a:rPr>
              <a:t>Broad findings</a:t>
            </a:r>
            <a:r>
              <a:rPr b="0" lang="en-AU" sz="2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only 160 heritage references were f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spcAft>
                <a:spcPts val="675"/>
              </a:spcAft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few Australia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ff"/>
                </a:solidFill>
                <a:latin typeface="Verdana"/>
              </a:rPr>
              <a:t>the majority of all studies were over 10 years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8F5-AE8F-440B-97A3-362E7D58FC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03:29:01Z</dcterms:created>
  <dc:creator>helpme-u</dc:creator>
  <dc:description/>
  <dc:language>en-US</dc:language>
  <cp:lastModifiedBy>hilary</cp:lastModifiedBy>
  <dcterms:modified xsi:type="dcterms:W3CDTF">2005-09-12T05:03:58Z</dcterms:modified>
  <cp:revision>22</cp:revision>
  <dc:subject/>
  <dc:title>ABP Faculty Research Seminar 2004   The value of heritage: an economic perspec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  <property fmtid="{D5CDD505-2E9C-101B-9397-08002B2CF9AE}" pid="3" name="_AdHocReviewCycleID">
    <vt:r8>-1699343724</vt:r8>
  </property>
  <property fmtid="{D5CDD505-2E9C-101B-9397-08002B2CF9AE}" pid="4" name="_AuthorEmail">
    <vt:lpwstr>saustin@pc.gov.au</vt:lpwstr>
  </property>
  <property fmtid="{D5CDD505-2E9C-101B-9397-08002B2CF9AE}" pid="5" name="_AuthorEmailDisplayName">
    <vt:lpwstr>Austin, Scott</vt:lpwstr>
  </property>
  <property fmtid="{D5CDD505-2E9C-101B-9397-08002B2CF9AE}" pid="6" name="_EmailSubject">
    <vt:lpwstr>One more sub for heritage</vt:lpwstr>
  </property>
</Properties>
</file>