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0001-E774-4C0D-82A3-3B93975C3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E1BB-BB79-4B47-98B5-1B2ACE2E3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9C99-9F5F-4380-B32A-4F0526902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E60A-2006-4A63-830A-A31A92AD4E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3B7E-7644-43F8-94C2-80CA2AE743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06005-CA7D-4FCC-B208-C0F1D9CDB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EB86-DC43-424F-8877-8DDE08B97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EDBDD-0B90-4716-A68D-DFA49A7FF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F3A0-3C4B-4AF5-96EA-B9E31E657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62E7F-83E7-46FB-B661-7C9DFC810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4646-B95F-43EC-9A9C-580F97D8E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189F-0FB4-47EF-8A3F-DBB34C2DF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E662-EE68-4300-BB9D-AFF610AC9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948360" y="6093000"/>
            <a:ext cx="581040" cy="5968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524720" y="6219720"/>
            <a:ext cx="1206360" cy="4176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5508720" y="6237360"/>
            <a:ext cx="1276200" cy="425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vity Com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 de Bru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s &amp; Affl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manian Grain Elev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manian Freight Subsidy Arran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2: Abolish TW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GOVT decision in 2004 impacted on TW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5/t advantage under TF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infrastructure ramifications – loss of bulk-shipping, future investment, grain reserves, drou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8827" t="4734" r="5881" b="5413"/>
          <a:stretch/>
        </p:blipFill>
        <p:spPr>
          <a:xfrm>
            <a:off x="179280" y="2708280"/>
            <a:ext cx="43927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s to TF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ain TFES as flat-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across both subsidies, no matter what level of subsidy is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46495" t="66291" r="20519" b="0"/>
          <a:stretch/>
        </p:blipFill>
        <p:spPr>
          <a:xfrm>
            <a:off x="1116000" y="189000"/>
            <a:ext cx="698328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miss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co / Monds &amp; Affleck / Tasmanian Grain Ele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1: Phase out TF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 2: Abolish TW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TFES – Flat-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ra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-market reverse take-over Roberts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s &amp; Affleck and TGE remain subsidiaries of Rob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management: Frank de Bru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companies, delivering differe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s &amp; Affl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&amp; bagged stockfeed manufacturer &amp; distrib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employees + 8 in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75% commercial layer-feed, 50% domestic bagged feeds &amp; 25% pig &amp; da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ingredients for Tas Feedlot for balancing TMR. Risk Mgmt Plan for Meat Bird industry. Control mechanism for imported weeds for Quaran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461960"/>
            <a:ext cx="2808360" cy="1866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28494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24000" y="4076640"/>
            <a:ext cx="1295640" cy="446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>
            <a:off x="1979640" y="4508640"/>
            <a:ext cx="5047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manian Grain Elev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handling &amp; storage, and grain-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 GBE. Sold $9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employees + 2 in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,000 tonnes storage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ntributor to major grain users for storage an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Emergency Feed Grain Res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s: Powranna, Devonport, Launce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2849400" cy="342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20720" y="2781360"/>
            <a:ext cx="27792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700360" y="3645000"/>
            <a:ext cx="277920" cy="285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484360" y="2852640"/>
            <a:ext cx="277920" cy="285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65440" y="306864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197080" y="3644640"/>
            <a:ext cx="50328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123640" y="313992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of 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% of gross stat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% total state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arm-dependent than any oth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7527" t="0" r="15238" b="24270"/>
          <a:stretch/>
        </p:blipFill>
        <p:spPr>
          <a:xfrm>
            <a:off x="324000" y="1700280"/>
            <a:ext cx="4176720" cy="2808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4797360"/>
            <a:ext cx="49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PG/TFGA Report:Contribution of Agriculture to Tasmanian Economy  September 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of Agr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+ Outputs = 16% GSP &amp; 20% T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944m farm-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,100m packed &amp; proc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7839" t="0" r="5036" b="7878"/>
          <a:stretch/>
        </p:blipFill>
        <p:spPr>
          <a:xfrm>
            <a:off x="179280" y="1700280"/>
            <a:ext cx="43214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1: Phase out TF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-cost businesses pass on changes to the cost of inputs such as freight and grain-purc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duction in assistance = increase in cost of freight = increase in cost of grain or stockfeed at farm-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 gross-margins are negatively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al 2: Abolish TW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gical basis for determining level of TW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um assistance is worst in drought-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FES supports less efficient method of transporting g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3876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4:25:55Z</dcterms:created>
  <dc:creator>Mis</dc:creator>
  <dc:description/>
  <dc:language>en-US</dc:language>
  <cp:lastModifiedBy>Mis</cp:lastModifiedBy>
  <dcterms:modified xsi:type="dcterms:W3CDTF">2006-10-17T22:45:12Z</dcterms:modified>
  <cp:revision>13</cp:revision>
  <dc:subject/>
  <dc:title>Productivity Commission</dc:title>
</cp:coreProperties>
</file>